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7640" indent="528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381880" y="65415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273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403D-F222-4925-B867-2300135C2002}" type="slidenum">
              <a:rPr b="0" lang="zh-CN" sz="1400" spc="-1" strike="noStrike">
                <a:solidFill>
                  <a:srgbClr val="e273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943600" y="16668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碘酸铜溶度积常数的测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80520" y="228240"/>
            <a:ext cx="72392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546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4612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4612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461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461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0" y="251460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286000" y="3504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2"/>
          </p:nvPr>
        </p:nvSpPr>
        <p:spPr>
          <a:xfrm>
            <a:off x="228600" y="640044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A33C-D8D0-4DF4-A308-97437B92B0B1}" type="datetime3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26年7月31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6400800"/>
            <a:ext cx="3810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</a:rPr>
              <a:t>实验中心网站：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ttp://hx.jluzh.com/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50796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3"/>
          </p:nvPr>
        </p:nvSpPr>
        <p:spPr>
          <a:xfrm>
            <a:off x="8381880" y="65415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273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B010-FD0D-4265-8184-4CFC63E42AF7}" type="slidenum">
              <a:rPr b="0" lang="zh-CN" sz="1400" spc="-1" strike="noStrike">
                <a:solidFill>
                  <a:srgbClr val="e273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96200" y="1522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碘酸铜溶度积常数的测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6477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b6767"/>
                </a:solidFill>
                <a:latin typeface="Arial"/>
                <a:ea typeface="楷体"/>
              </a:rPr>
              <a:t>自定义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2515680"/>
            <a:ext cx="7010280" cy="6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碘酸铜溶度积常数的测定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895480" y="33526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011.03 ~ 2011.0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927F16B-B7C6-4AFE-A5E2-08205E43D471}" type="datetime3">
              <a:rPr lang="en-US"/>
              <a:t>July 31, 2026</a:t>
            </a:fld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8640" y="686880"/>
            <a:ext cx="8383680" cy="16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数据记录及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绘制工作曲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-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同浓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2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准溶液的吸光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5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43000" y="2362320"/>
          <a:ext cx="6934320" cy="1919160"/>
        </p:xfrm>
        <a:graphic>
          <a:graphicData uri="http://schemas.openxmlformats.org/drawingml/2006/table">
            <a:tbl>
              <a:tblPr/>
              <a:tblGrid>
                <a:gridCol w="1523880"/>
                <a:gridCol w="1143000"/>
                <a:gridCol w="1067040"/>
                <a:gridCol w="1066680"/>
                <a:gridCol w="1066680"/>
                <a:gridCol w="10670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Cu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/mol·L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461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461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461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461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461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吸光度（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461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461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461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461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461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838080" y="4419360"/>
            <a:ext cx="508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纵坐标，相应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u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横坐标，绘制工作曲线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-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实验数据与计算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23880" y="1676520"/>
          <a:ext cx="6477120" cy="290808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20968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461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461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461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样体积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461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461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吸光度（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461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461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Cu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/ mol·L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461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461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40" indent="528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溶度积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461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461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3500280" y="4857480"/>
            <a:ext cx="102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较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测定值与理论值，说明产生误差的原因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思考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下操作对测定结果有何影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⑴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(IO3)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未达饱和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⑵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制得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(IO3)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固体未洗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滤时滤纸透滤对测量结果有何影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滤时滤纸用水湿润或烧杯漏斗不干燥，对测定结果有何影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用比色皿不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，对测定结果有何影响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事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严格来讲应该以离子活度的乘积来表示溶度积常数，但由于难溶性强电解质的溶解度很小，离子强度也很小，可以用浓度代替活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比色皿中溶液不要装太多，距离上边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擦干外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用作标纸作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制得的饱和溶液过滤时所使用的漏斗、滤纸和烧杯等均应是干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结束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实验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7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碘酸铜溶度积常数的测定 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590920" y="3200040"/>
            <a:ext cx="5943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实验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实验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数据记录与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思考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用光度法测定溶度积的原理和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练习分光光度计和酸度计的使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掌握沉淀的制备、洗涤和过滤等操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实验原理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碘酸铜是难溶性强电解质，在其饱和水溶液中，存在着下列平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一定温度下，平衡溶液中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浓度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浓度平方的乘积是一个常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[Cu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][IO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称为溶度积常数，它和其他平衡常数一样，不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变化而变化，只随温度的不同而改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一定温度下的饱和溶液中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= 2 [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故该温度下饱和溶液的溶度积常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4[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?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09680" y="2057400"/>
          <a:ext cx="4724640" cy="6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2057400"/>
                    <a:ext cx="47246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686880"/>
            <a:ext cx="823104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一定的温度下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作用制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(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固体，然后将新制得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(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固体溶于水制成饱和溶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磺基水杨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=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左右时，生成黄绿色磺基水杨酸铜配离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[CuR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由于这种配离子对波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0 n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光具有强吸收，而磺基水杨酸本身为无色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浓度很小几乎不吸收可见光，所以它对光的吸收程度（用吸光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示）只与有色离子浓度（即溶液浓度）成正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利用吸光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铜离子含量工作曲线即可确定出饱和溶液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含量，进而求出碘酸铜的溶度积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实验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(IO3)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固体的制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量筒分别量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 mol·L-1 CuSO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4 mol·L-1 KIO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烧杯中进行反应，经搅拌后静止放置，使之慢慢析出淡蓝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(IO3)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沉淀，倾析法除去上层清液，用蒸馏水洗涤沉淀至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42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止（如何判断？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8904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(IO3)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饱和溶液的制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上述新制得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(IO3)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固体中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，均匀搅拌。因为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(IO3)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固体配制饱和溶液达到平衡很慢（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~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），所以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(IO3)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固体加入水后小火加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使部分固体溶解，溶液迅速达到过饱和后，冷却至室温，放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~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时，使过饱和晶体析出，得到饱和溶液。取其上层清液用干燥的玻璃漏斗过滤，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干燥烧杯接收（为何要干燥烧杯？）。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7239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工作曲线的绘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吸量管分别吸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标准铜溶液（已配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g·L-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烧杯中，用量筒各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5 mol·L-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磺基水杨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mL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然后用酸度计分别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NO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调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4.5~5.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把溶液转移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容量瓶中用相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蒸馏水稀释至刻度，摇匀，待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分光光度计上，以蒸馏水作参比溶液，选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色皿，在入射光波长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0 n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，测定上述溶液的吸光度，填入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-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。以吸光度为纵坐标，相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浓度为横坐标，绘制工作曲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饱和溶液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浓度的测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吸量管吸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00 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滤后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(IO3)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饱和溶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份分别放入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容量瓶中，各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L 0.05 mol·L-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磺基水杨酸，按上述方法和条件调节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值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5~5.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用水稀释至刻度。按上述测工作曲线同样条件测定溶液的吸光度，测得的吸光度数据应平行。根据工作曲线和吸光度求得饱和溶液中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浓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1:44:26Z</dcterms:created>
  <dc:creator>Samaria</dc:creator>
  <dc:description>化学与药学系实验中心ppt模版</dc:description>
  <cp:keywords/>
  <dc:language>en-US</dc:language>
  <cp:lastModifiedBy>user</cp:lastModifiedBy>
  <dcterms:modified xsi:type="dcterms:W3CDTF">2011-02-21T12:43:39Z</dcterms:modified>
  <cp:revision>25</cp:revision>
  <dc:subject>ppt模版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  <property fmtid="{D5CDD505-2E9C-101B-9397-08002B2CF9AE}" pid="4" name="办公室">
    <vt:r8>403</vt:r8>
  </property>
  <property fmtid="{D5CDD505-2E9C-101B-9397-08002B2CF9AE}" pid="5" name="编辑">
    <vt:lpwstr>Zhrl</vt:lpwstr>
  </property>
</Properties>
</file>